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03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4616-206A-4B13-AA23-CEB2D613ED81}" type="slidenum">
              <a:rPr b="0" lang="en-N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F0AA-917A-4B1D-B1BD-099190498F05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AB77-30A0-42D0-A697-25B2B1E1F4B0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9FB-80F3-454B-94BC-2BC301B63CBB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5C65-A7F8-4B09-B6B0-6F1DB240B06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FA9-F213-4F9A-B0F6-52D38FA96524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6819-74E8-4629-AEFF-957E1605C21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8419-66DA-4601-931D-F3855EB079D9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4600-BDDE-4961-BF1B-B60EE8E159E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8960-986B-4FE4-93D5-44EB063659DC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C77-3B3B-4B29-B2AA-DE387C28335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6DB-21AC-4E1E-AA8D-7C3DD1B3999B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402E-6F89-43A6-9D67-9A993FBC0150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29E3-6DB6-4EDB-B914-67DE6ED2BBBC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A8A-4202-4B47-A97E-7FB5BBAA45ED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A76-4C26-4881-AD6C-A9295914BE99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C7B-C001-4E27-A32C-96F5DF647493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A469-094C-4D24-84CB-DD67E5D44FD9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D2FD-5DBC-4842-968F-33AAC82E077A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47E-CB17-4299-BA9F-55C59947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5D2-981E-467C-990A-508F0C96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768-0DF2-453A-86AC-EC68385E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88D-FA7E-49E4-BE73-4176FE7B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1D6C-D51F-4380-8277-5E7867CA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3C7D-F7BE-4884-95A1-416760B3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D984-F56B-4EB3-8045-2A7BA698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8074-9593-449D-9E4B-5DD65BEB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C494-6284-4C23-821E-DC99E45D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6A06-CD16-4D6F-8F56-B019666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C5F8-1B97-474B-B4A9-EEC9A1E0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B1C-2045-464F-AF5B-07298F1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C9E0-ADD7-4560-8F25-25CBAA9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5F82-99D7-4227-8D8B-44E22EE5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27B3-3AE2-42A8-986A-78A60E07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BE6A-F29C-4214-BB5E-2825A402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A292-FE66-45C0-B85F-EBBBBB45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7A2-A0FF-470D-A39E-912ABB44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554-3BB1-42CA-B983-50B7AD0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DC4-3CDF-4D54-92E5-1E40002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95A-F75E-4069-A2C6-B872C655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D29-CF5F-460C-97C1-C991E503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2F9-4445-487E-B639-A1C7560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2CE-4D30-4DF1-BF73-4A47F7B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03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5E63-7D40-4FB7-A8C6-E83ADAAB8160}" type="slidenum">
              <a:rPr b="0" lang="en-NZ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03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F731-7C95-41AF-AE4E-E7B984AB7518}" type="slidenum">
              <a:rPr b="0" lang="en-NZ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Write the Answer 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y does the </a:t>
            </a:r>
            <a:r>
              <a:rPr b="0" i="1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rate of reaction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increase for most reactions with an increase in temperature?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  <a:p>
            <a:pPr marL="426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I’m looking for at least 3 key ideas.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586160" y="5516640"/>
            <a:ext cx="537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rate of re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Get used to using this ter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Conclusion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rite one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Answer the question in the aim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ecff"/>
                </a:solidFill>
                <a:latin typeface="Comic Sans MS"/>
              </a:rPr>
              <a:t>As the surface area is increased the </a:t>
            </a:r>
            <a:br>
              <a:rPr sz="2800"/>
            </a:br>
            <a:r>
              <a:rPr b="0" lang="en-NZ" sz="2800" spc="-1" strike="noStrike" u="sng">
                <a:solidFill>
                  <a:srgbClr val="ccecff"/>
                </a:solidFill>
                <a:uFillTx/>
                <a:latin typeface="Comic Sans MS"/>
              </a:rPr>
              <a:t>rate of reaction</a:t>
            </a:r>
            <a:r>
              <a:rPr b="0" lang="en-NZ" sz="2800" spc="-1" strike="noStrike">
                <a:solidFill>
                  <a:srgbClr val="ccecff"/>
                </a:solidFill>
                <a:latin typeface="Comic Sans MS"/>
              </a:rPr>
              <a:t> increase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66ff33"/>
                </a:solidFill>
                <a:latin typeface="Comic Sans MS"/>
              </a:rPr>
              <a:t>         </a:t>
            </a:r>
            <a:r>
              <a:rPr b="0" lang="en-NZ" sz="2000" spc="-1" strike="noStrike">
                <a:solidFill>
                  <a:srgbClr val="66ff33"/>
                </a:solidFill>
                <a:latin typeface="Comic Sans MS"/>
              </a:rPr>
              <a:t>(use that phrase)</a:t>
            </a:r>
            <a:endParaRPr b="0" lang="en-US" sz="20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ecff"/>
                </a:solidFill>
                <a:latin typeface="Comic Sans MS"/>
              </a:rPr>
              <a:t>My hypothesis was right/wrong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250920" y="189000"/>
            <a:ext cx="6265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Lets start with the sci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Discuss…………………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mic Sans MS"/>
              </a:rPr>
              <a:t>(remember that means more than one little sentence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Why the </a:t>
            </a:r>
            <a:r>
              <a:rPr b="0" lang="en-NZ" sz="2800" spc="-1" strike="noStrike" u="sng">
                <a:solidFill>
                  <a:srgbClr val="66ff33"/>
                </a:solidFill>
                <a:uFillTx/>
                <a:latin typeface="Comic Sans MS"/>
              </a:rPr>
              <a:t>rate of reaction</a:t>
            </a: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 increas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The smaller the size of the reacting </a:t>
            </a:r>
            <a:br>
              <a:rPr sz="2800"/>
            </a:b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solid the faster the rate of the </a:t>
            </a:r>
            <a:br>
              <a:rPr sz="2800"/>
            </a:b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reaction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Cutting the tablet </a:t>
            </a:r>
            <a:r>
              <a:rPr b="1" i="1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increases the surface area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 of the tablet making it easier for the tablet particles to react with the HCl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There was a larger chance of an </a:t>
            </a:r>
            <a:r>
              <a:rPr b="0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effective collision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, with  </a:t>
            </a:r>
            <a:r>
              <a:rPr b="0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sufficient energy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 and </a:t>
            </a:r>
            <a:r>
              <a:rPr b="0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favourable orientation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 between the tablet and hydrochloric acid particles when the tablet had a larger surface area.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Now the Fun Begins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This is for Excellence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And…………… Its all or nothing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You need to write a ‘Discussion’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This involves 3 parts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-The Science involved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             </a:t>
            </a:r>
            <a:r>
              <a:rPr b="0" lang="en-NZ" sz="2800" spc="-1" strike="noStrike" u="sng">
                <a:solidFill>
                  <a:srgbClr val="66ff33"/>
                </a:solidFill>
                <a:uFillTx/>
                <a:latin typeface="Comic Sans MS"/>
              </a:rPr>
              <a:t>Evaluatio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-How the investigation could be or was improved</a:t>
            </a:r>
            <a:br>
              <a:rPr sz="2800"/>
            </a:b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and why is the method valid(sound)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-Why are your results reliable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73422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ff99"/>
                </a:solidFill>
                <a:latin typeface="Comic Sans MS"/>
              </a:rPr>
              <a:t>Method:  Changes + reasons</a:t>
            </a:r>
            <a:br>
              <a:rPr sz="2800"/>
            </a:br>
            <a:r>
              <a:rPr b="1" i="1" lang="en-NZ" sz="2800" spc="-1" strike="noStrike">
                <a:solidFill>
                  <a:srgbClr val="66ff33"/>
                </a:solidFill>
                <a:latin typeface="Comic Sans MS"/>
              </a:rPr>
              <a:t>OR</a:t>
            </a:r>
            <a:br>
              <a:rPr sz="2800"/>
            </a:br>
            <a:r>
              <a:rPr b="1" i="1" lang="en-NZ" sz="2800" spc="-1" strike="noStrike">
                <a:solidFill>
                  <a:srgbClr val="66ff33"/>
                </a:solidFill>
                <a:latin typeface="Comic Sans MS"/>
              </a:rPr>
              <a:t>Improvements + reasons</a:t>
            </a: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00"/>
                </a:solidFill>
                <a:latin typeface="Comic Sans MS"/>
              </a:rPr>
              <a:t>Eg: The reaction should have been done in a water bath to keep the temperature constant. The faster reactions could have released significant heat thus speeding up the reaction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73422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Method:  Changes + reasons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Improvements + reasons</a:t>
            </a: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00"/>
                </a:solidFill>
                <a:latin typeface="Comic Sans MS"/>
              </a:rPr>
              <a:t>Eg: One of my results for the ½ tablet was really quick compared to the other two. I think I may have measured the wrong mass of tablet or time to react. So I repeated the test again and left the unusual result out of my processing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734220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Method:  Changes + reasons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Improvements + reasons</a:t>
            </a: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00"/>
                </a:solidFill>
                <a:latin typeface="Comic Sans MS"/>
              </a:rPr>
              <a:t>Eg: Loss of mass as powder when cutting the tablets was a problem SO to ensure this was a fair test I cut the tablet on paper to avoid loss of mas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66ff33"/>
                </a:solidFill>
                <a:uFillTx/>
                <a:latin typeface="Comic Sans MS"/>
              </a:rPr>
              <a:t>Validity 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(soundness) of method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y method can be trusted because………………………………………………………………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Consistent gear and judgement of the end point, repeated each trial,……………………….. </a:t>
            </a:r>
            <a:br>
              <a:rPr sz="2800"/>
            </a:b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add some of your ow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684360" y="33300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ff"/>
                </a:solidFill>
                <a:uFillTx/>
                <a:latin typeface="Comic Sans MS"/>
              </a:rPr>
              <a:t>Reliability (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reproducibility) of data</a:t>
            </a:r>
            <a:br>
              <a:rPr sz="2800"/>
            </a:b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y results can be </a:t>
            </a:r>
            <a:r>
              <a:rPr b="1" i="1" lang="en-NZ" sz="2800" spc="-1" strike="noStrike" u="sng">
                <a:solidFill>
                  <a:srgbClr val="ffff00"/>
                </a:solidFill>
                <a:uFillTx/>
                <a:latin typeface="Comic Sans MS"/>
              </a:rPr>
              <a:t>trusted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because……………………………………………………………….</a:t>
            </a:r>
            <a:r>
              <a:rPr b="0" lang="en-NZ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Consistent results on multiple trials, (except for …………. Which we re-ran and…………….)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One lump or two?”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Background Informatio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You have been employed as a chemist by a pharmaceutical company to investigate the rate at which their pain relief tablets react.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One lump or two?”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Background Informatio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n this investigation you are to develop and carry out an investigation. You will plan, collect, process and interpret information, and present a report on the effect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surface area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 the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rate of a reaction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is investigation is a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air test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investigation.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Got That?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First write an Aim and Hypothesis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783000" y="4577040"/>
            <a:ext cx="678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ypothesis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hat effect does </a:t>
            </a:r>
            <a:r>
              <a:rPr b="0" i="1" lang="en-NZ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surface area </a:t>
            </a: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 the</a:t>
            </a:r>
            <a:br>
              <a:rPr sz="2800"/>
            </a:b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NZ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rate of a reaction</a:t>
            </a: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57160" y="264816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i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investigate how surface area affects the rate of re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rite down the dependant and independent</a:t>
            </a:r>
            <a:br>
              <a:rPr sz="2800"/>
            </a:b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variable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ow will they be measured and controlled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Controlled  variables – what are they and how are you going to control them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Time to write a method easily understood by a student in another clas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Include steps and diagram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Method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49636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Do you have a large labeled diagram? (not a small scribble)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ave you specified how much acid is being used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ave you said how the tablet is to be cut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ow is the temperature being kept constant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Did you indicate the investigation should be repeated at least 3 times, with each tablet surface area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ow is the end point of the reaction determined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Is the method written in numbered steps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Results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Powdered    3.8s , 3.3s, 4.1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Eighths      15.4s, 15.5s, 21.2s 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Quartered  22.3s, 23.9s, 21.7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Halved      32.4s, 30.0s, 34.1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1 whole     42.0s , 44.0s, 41.8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Put these results in a proper scientific table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What are you going to do with the results now?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hat are you going to do with the vastly different result in the eighths split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Average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Graph the average not all result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Interpretation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hat is the graph telling you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As the surface area of the tablet increases the rate of reaction increases</a:t>
            </a:r>
            <a:r>
              <a:rPr b="0" lang="en-NZ" sz="2800" spc="-1" strike="noStrike">
                <a:solidFill>
                  <a:srgbClr val="fe1f08"/>
                </a:solidFill>
                <a:latin typeface="Comic Sans MS"/>
              </a:rPr>
              <a:t>. </a:t>
            </a:r>
            <a:br>
              <a:rPr sz="2800"/>
            </a:br>
            <a:r>
              <a:rPr b="0" lang="en-NZ" sz="2800" spc="-1" strike="noStrike">
                <a:solidFill>
                  <a:srgbClr val="fe1f0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10-03-16T20:16:08Z</dcterms:modified>
  <cp:revision>39</cp:revision>
  <dc:subject/>
  <dc:title>PowerPoint Presentation</dc:title>
</cp:coreProperties>
</file>